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9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1.jpeg" ContentType="image/jpeg"/>
  <Override PartName="/ppt/media/image17.pct" ContentType="image/x-pict"/>
  <Override PartName="/ppt/media/image16.pct" ContentType="image/x-pict"/>
  <Override PartName="/ppt/media/image3.jpeg" ContentType="image/jpeg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8.png" ContentType="image/png"/>
  <Override PartName="/ppt/media/image1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2D1-B6DE-486B-9B81-3A22DD42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596-F0DE-4936-A6FD-ECB5E53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EAA-FD8D-464A-982B-B767AC73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018-A1CB-4616-803D-E7A01D3D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01F-E96C-4BAE-996A-9E608DB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40E-4E91-4B6A-9969-D85D383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600-5778-40A4-A4F0-905A315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672-D22D-4DD3-A9C9-548AA62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C60-1C8A-4F51-8B37-F09487B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028-4BC5-402B-8C97-AAA97D9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DD5-041F-48BE-90AF-F9771C33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380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67760" y="17521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380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67760" y="3861720"/>
            <a:ext cx="188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7D2-A0EE-4644-BB9B-D4BDB2C5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38617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1752120"/>
            <a:ext cx="28630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861720"/>
            <a:ext cx="5867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752120"/>
            <a:ext cx="5867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3" marL="1568160" indent="-223920">
              <a:spcBef>
                <a:spcPts val="7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4" marL="2016000" indent="-223920">
              <a:spcBef>
                <a:spcPts val="700"/>
              </a:spcBef>
              <a:buClr>
                <a:srgbClr val="070c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5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6" marL="2016000" indent="-22392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1520" y="165240"/>
            <a:ext cx="9194400" cy="6692760"/>
            <a:chOff x="101520" y="165240"/>
            <a:chExt cx="9194400" cy="6692760"/>
          </a:xfrm>
        </p:grpSpPr>
        <p:sp>
          <p:nvSpPr>
            <p:cNvPr id="3" name=""/>
            <p:cNvSpPr/>
            <p:nvPr/>
          </p:nvSpPr>
          <p:spPr>
            <a:xfrm>
              <a:off x="101520" y="165240"/>
              <a:ext cx="623160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3240" y="304920"/>
              <a:ext cx="632160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250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3120" y="1079640"/>
              <a:ext cx="845280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553080" y="6553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c13"/>
                </a:solidFill>
                <a:latin typeface="Arial"/>
                <a:ea typeface="Arial"/>
              </a:rPr>
              <a:t>Copyright © Allyn &amp; Bacon 2009</a:t>
            </a:r>
            <a:endParaRPr b="0" lang="en-US" sz="1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E63-239A-479D-9D34-DD3D1FDE208C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9" name="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0c1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76440" y="3885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523b"/>
                </a:solidFill>
                <a:latin typeface="Arial"/>
              </a:rPr>
              <a:t>Sociology Now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34523b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34523b"/>
                </a:solidFill>
                <a:latin typeface="Arial"/>
              </a:rPr>
              <a:t> Edition (Brief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523b"/>
                </a:solidFill>
                <a:latin typeface="Arial"/>
              </a:rPr>
              <a:t>Kimmel/Aronson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24852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0c13"/>
                </a:solidFill>
                <a:latin typeface="Arial"/>
              </a:rPr>
              <a:t>*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0048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c13"/>
                </a:solidFill>
                <a:latin typeface="Arial"/>
              </a:rPr>
              <a:t>Deviance and Crime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990720"/>
            <a:ext cx="685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70c13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4520" y="12193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c h a p t 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0c1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70760" y="2197080"/>
            <a:ext cx="1538280" cy="229860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Strain Theory 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(Merton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onformis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nnovator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itualis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bel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treatist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Broken Windows Theor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minor acts of deviance can spiral into severe crime and social deca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Zimbardo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477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inal Subcultures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youth gang member values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Cohen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Nonutilitarian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Maliciousne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Negativ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Short-run hedon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Group autonom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lower-class subcultural norms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Miller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Troubl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Toughne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Smartne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Excitement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Fat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Autonom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019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Opportunity Theor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Cloward and Ohlin)  </a:t>
            </a:r>
            <a:endParaRPr b="1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rime arises from opportun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mphasis on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eviant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riminal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violence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etreatist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onflict Theor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larger structural analysis of inequalities based on race, class or gender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Quinney) 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ypes of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85720" y="1409760"/>
            <a:ext cx="61722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violent crime and property crim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t Work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white collar, consumer, occupational, organizational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ybercrim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Hate Crim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motivated by offender bia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race, ethnicity, religion, sexual orientation, or disabil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ypes of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9343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49360" y="1060560"/>
            <a:ext cx="62438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ypes of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4572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6743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sociological explanatio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cultural emphasis:  individual succes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large income differential – income gap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gun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49388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8840" y="1600200"/>
            <a:ext cx="628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Guns 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Gender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Ra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Strain theo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Differential opportun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Labeling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Ag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rime and Clas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at is Deviance?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breaking a social rul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efusing to follow one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example:  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nudist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deviance by associ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y do people break rules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y don’t most of us do it all the time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at makes a deviant or criminal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What can be done about it?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971800"/>
            <a:ext cx="4343400" cy="838080"/>
          </a:xfrm>
          <a:prstGeom prst="cube">
            <a:avLst>
              <a:gd name="adj" fmla="val 14583"/>
            </a:avLst>
          </a:prstGeom>
          <a:solidFill>
            <a:srgbClr val="cccc00">
              <a:alpha val="45000"/>
            </a:srgbClr>
          </a:solidFill>
          <a:ln w="3240">
            <a:solidFill>
              <a:srgbClr val="070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Crime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:  deviance “bad enough” to 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warrant formal sanctions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1157400"/>
            <a:ext cx="83822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rime in the United States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624480" cy="4765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24280" y="1441440"/>
            <a:ext cx="36021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 Criminal Justice System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Poli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Court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Punishment and Correction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risons  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Retribu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Deterre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Rehabilitation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he Death Penal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 Criminal Justice System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3276720" cy="6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04920" y="1571760"/>
            <a:ext cx="3522600" cy="3136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809880" y="1569960"/>
            <a:ext cx="3537000" cy="406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48520" y="1752480"/>
            <a:ext cx="25984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 Criminal Justice System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962520" cy="64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35400" y="1905120"/>
            <a:ext cx="4603680" cy="360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04920" y="4727520"/>
            <a:ext cx="32763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lobalization and Crime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historical and contemporar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not just the Internet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Operations in every arena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You are most likely to be the victim of a crime locall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Deviance and Crime in the 21</a:t>
            </a:r>
            <a:r>
              <a:rPr b="1" lang="en-US" sz="2800" spc="-1" strike="noStrike" baseline="30000">
                <a:solidFill>
                  <a:srgbClr val="070c13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 Century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lobalization and Crime 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679752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formity and Social Contro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Folkway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More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Taboo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0c1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tigma</a:t>
            </a:r>
            <a:endParaRPr b="1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ttribute “taints or discounts” a person/group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will “spoil” your identit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trategies to neutralize stigma </a:t>
            </a:r>
            <a:r>
              <a:rPr b="1" lang="en-US" sz="1600" spc="-1" strike="noStrike">
                <a:solidFill>
                  <a:srgbClr val="070c13"/>
                </a:solidFill>
                <a:latin typeface="Arial"/>
              </a:rPr>
              <a:t>(Goffman)</a:t>
            </a:r>
            <a:endParaRPr b="0" lang="en-US" sz="16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Minstreliz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Normific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0c13"/>
                </a:solidFill>
                <a:latin typeface="Arial"/>
              </a:rPr>
              <a:t>Militant chauvinism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formity and Social Contro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Deviant subcultures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volve within a dominant cultur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loose association or organized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youth gang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identity/ condition/activity mus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e </a:t>
            </a:r>
            <a:r>
              <a:rPr b="0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punished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(but not too much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have </a:t>
            </a:r>
            <a:r>
              <a:rPr b="0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(but not too many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e </a:t>
            </a:r>
            <a:r>
              <a:rPr b="0" lang="en-US" sz="2400" spc="-1" strike="noStrike" u="sng">
                <a:solidFill>
                  <a:srgbClr val="070c13"/>
                </a:solidFill>
                <a:uFillTx/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70c13"/>
                </a:solidFill>
                <a:latin typeface="Arial"/>
              </a:rPr>
              <a:t>(but not too complex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Youth Gangs as Deviant Subcultur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Youth Gangs Toda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deviance is useful to society</a:t>
            </a: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(Durkheim)</a:t>
            </a:r>
            <a:endParaRPr b="1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affirms cultural norms and valu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clarifies moral boundaries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heightens group solidarity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It encourages social chang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Explaining Deviance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Differential Association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Sutherland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associate with people who are deviant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ewarded for deviant behavior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Control Theory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Hirschi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ecisions through “cost-benefit analysis”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determine punishment/reward/risk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ocial Controls </a:t>
            </a:r>
            <a:r>
              <a:rPr b="1" lang="en-US" sz="1800" spc="-1" strike="noStrike">
                <a:solidFill>
                  <a:srgbClr val="070c13"/>
                </a:solidFill>
                <a:latin typeface="Arial"/>
              </a:rPr>
              <a:t>(Reckless)</a:t>
            </a: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outer control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inner control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3308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Commitment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Involvement 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6eb2"/>
                </a:solidFill>
                <a:latin typeface="Arial"/>
              </a:rPr>
              <a:t>Belief</a:t>
            </a:r>
            <a:endParaRPr b="0" lang="en-US" sz="16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541008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500"/>
                </a:lnTo>
                <a:cubicBezTo>
                  <a:pt x="10800" y="5400"/>
                  <a:pt x="5400" y="6300"/>
                  <a:pt x="0" y="6300"/>
                </a:cubicBezTo>
                <a:cubicBezTo>
                  <a:pt x="5400" y="6300"/>
                  <a:pt x="10800" y="7200"/>
                  <a:pt x="10800" y="81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46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Labeling Theory 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Powerful determine what is devia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primary devia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secondary devia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c13"/>
                </a:solidFill>
                <a:latin typeface="Arial"/>
              </a:rPr>
              <a:t>tertiary deviance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Social Coherenc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0c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c13"/>
                </a:solidFill>
                <a:latin typeface="Arial"/>
              </a:rPr>
              <a:t>Deviance and Inequality  </a:t>
            </a: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those who have power: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ules are “natural” and “good”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internalized by individual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masks political agenda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justification of inequalities - </a:t>
            </a:r>
            <a:r>
              <a:rPr b="0" i="1" lang="en-US" sz="2400" spc="-1" strike="noStrike">
                <a:solidFill>
                  <a:srgbClr val="070c13"/>
                </a:solidFill>
                <a:latin typeface="Arial"/>
              </a:rPr>
              <a:t>labeling actors and acts as deviant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gender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exual orientation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race/ethnicity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70c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social class</a:t>
            </a: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eviance and Cri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3352320"/>
            <a:ext cx="5867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ad in and of themselves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0c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0c13"/>
                </a:solidFill>
                <a:latin typeface="Arial"/>
              </a:rPr>
              <a:t>bad because they are prohibited”</a:t>
            </a:r>
            <a:endParaRPr b="0" lang="en-US" sz="24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70c1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752480"/>
            <a:ext cx="5105520" cy="1295640"/>
          </a:xfrm>
          <a:prstGeom prst="cube">
            <a:avLst>
              <a:gd name="adj" fmla="val 14583"/>
            </a:avLst>
          </a:prstGeom>
          <a:solidFill>
            <a:srgbClr val="cccc00">
              <a:alpha val="45000"/>
            </a:srgbClr>
          </a:solidFill>
          <a:ln w="3240">
            <a:solidFill>
              <a:srgbClr val="070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c13"/>
                </a:solidFill>
                <a:latin typeface="Arial"/>
              </a:rPr>
              <a:t>Crime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:  any act that violates a 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70c13"/>
                </a:solidFill>
                <a:latin typeface="Arial"/>
              </a:rPr>
              <a:t>formal normative code 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3:21:37Z</dcterms:created>
  <dc:creator/>
  <dc:description/>
  <cp:keywords/>
  <dc:language>en-US</dc:language>
  <cp:lastModifiedBy>Pearson Inc.</cp:lastModifiedBy>
  <cp:lastPrinted>2009-04-22T19:24:48Z</cp:lastPrinted>
  <dcterms:modified xsi:type="dcterms:W3CDTF">2008-07-15T20:12:39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